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DA89-A2BE-470E-BA91-43C72EF32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4132-E0A2-499A-81CA-2C9C90FA2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3CD7-C3F5-4203-B95F-A36467F36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5DD7-2E98-43A9-8C2B-DE0D48EDD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8EEE3-3524-4D56-8DAE-0EFC47F38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D724E-3CCF-4609-B1A1-78FB62013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DB3D6-FCC4-4A79-B5DA-EF81A8860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53365-7142-4772-8160-9702823EB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D5ADE-F977-4289-ACD9-321CA27AA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E6018-AE2A-4B00-B9D6-84D8B8B23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87843-D30F-4771-B76A-2692B888A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4356-AEF6-417B-B512-34EACBB3D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CA1A8-8385-48E7-B6F2-8BC003C0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5C07C-2D56-4049-B122-9EF026F1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E0F59-ED33-4B93-956D-30C1E6ACD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3410C-1736-46C2-AB9E-10184BFFA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CFD52-4593-43A7-9CBE-14B716A00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D1C2-B3DA-4C1F-B3B9-A71FA9507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0A00-FC12-455E-B11C-DC7D48F3B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589B-F1AF-440C-BC73-6AF7AC812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88B3-7A6B-460C-AC13-469A27B1C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8605-ADAF-48AA-BFAB-DF127B78C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BE87-9377-4D57-96A6-8ECE887FD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394C-813C-4361-A4D3-A1A277E1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C1795-9CD4-4BB1-8DCA-2FCB4F75DD77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8BA61-B5B3-42B9-BFEB-63CFD26ECB36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238400" y="83808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f4081"/>
                </a:solidFill>
                <a:latin typeface="宋体"/>
              </a:rPr>
              <a:t>第</a:t>
            </a:r>
            <a:r>
              <a:rPr b="0" lang="zh-CN" sz="40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1f4081"/>
                </a:solidFill>
                <a:latin typeface="Times New Roman"/>
              </a:rPr>
              <a:t>6 </a:t>
            </a:r>
            <a:r>
              <a:rPr b="0" lang="zh-CN" sz="4000" spc="-1" strike="noStrike">
                <a:solidFill>
                  <a:srgbClr val="1f4081"/>
                </a:solidFill>
                <a:latin typeface="宋体"/>
              </a:rPr>
              <a:t>章</a:t>
            </a:r>
            <a:r>
              <a:rPr b="0" lang="zh-CN" sz="4000" spc="-1" strike="noStrike">
                <a:solidFill>
                  <a:srgbClr val="1f4081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1f4081"/>
                </a:solidFill>
                <a:latin typeface="宋体"/>
              </a:rPr>
              <a:t>多媒体应用能力培养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1689120"/>
            <a:ext cx="8076960" cy="38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3040" bIns="152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宋体"/>
              </a:rPr>
              <a:t>本章学习目标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本章主要讲解多媒体计算机的音频处理、视频处理和数据压缩技术等知识，最后讲解多媒体软件。通过本章的学习，读者应该掌握以下内容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   ●    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了解多媒体计算机中的关键技术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   ●    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掌握音频、视频处理技术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   ●    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了解多媒体软件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   ●    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掌握多媒体的数据压缩技术和标准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803040" y="870120"/>
            <a:ext cx="193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f4081"/>
                </a:solidFill>
                <a:latin typeface="Times New Roman"/>
              </a:rPr>
              <a:t>6.2.1   </a:t>
            </a:r>
            <a:r>
              <a:rPr b="0" lang="zh-CN" sz="4000" spc="-1" strike="noStrike">
                <a:solidFill>
                  <a:srgbClr val="1f4081"/>
                </a:solidFill>
                <a:latin typeface="Times New Roman"/>
              </a:rPr>
              <a:t>听觉媒体、视觉媒体的处理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57160" y="1714680"/>
            <a:ext cx="7867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、听觉媒体的处理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数字音频技术：多媒体计算机以数字形式进行声音处理的技术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数字音频技术处理的过程：对模拟信号进行模∕数转换得到数字信号，用以进行处理、传输和存储等，输出时进行数∕模转换还原成模拟信号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其中，将模拟信号转换成数字信号的模数转换包括采样和量化两个过程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857160" y="1028880"/>
            <a:ext cx="77533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数字音频的数据量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=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（采样频率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×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每个采样位数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×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声道数）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/ 8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多媒体计算机处理声音的组件是声卡，声音卡一般可同时处理数字化声音、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IDI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消息、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D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音频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D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音频是以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16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bit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44.1 KHz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采样的高质量数字化声音，并以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D-DA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方式存储在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D-ROM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光盘上，可以通过符合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D-DA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标准的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D-ROM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驱动器播放。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IDI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消息，实际上就是乐谱的数字描述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571680" y="1119240"/>
            <a:ext cx="7696080" cy="24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．视觉媒体的处理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位图图像是指在空间和亮度上已经离散化了的图像。视频可以看成是配有相应声音效果的图像的快速更替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重要的技术参数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90400" y="3514680"/>
            <a:ext cx="809640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分辩率：分辩率有三种，分别是屏幕分辩率、图像分辩率和像素分辩率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图像深度：位图中每个像素所占的位数称为图像深度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调色板：包含此幅图像中各种颜色的颜色表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23960" y="971640"/>
            <a:ext cx="7981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位图图像的数据量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        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B=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h×w×c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）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/ 8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字节）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其中：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h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为图像的垂直方向分辨率，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w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为水平方向分辨率像素，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为颜色深度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宋体"/>
              </a:rPr>
              <a:t>  </a:t>
            </a:r>
            <a:r>
              <a:rPr b="0" lang="zh-CN" sz="3200" spc="-1" strike="noStrike">
                <a:solidFill>
                  <a:srgbClr val="5b5249"/>
                </a:solidFill>
                <a:latin typeface="宋体"/>
              </a:rPr>
              <a:t>数字视频用三个基本参数来进行描述，即用于描述视频中每一帧图像的分辨率、颜色深度，以及描述图像变化速度的图像更替率。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585880" y="965160"/>
            <a:ext cx="35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f4081"/>
                </a:solidFill>
                <a:latin typeface="Times New Roman"/>
              </a:rPr>
              <a:t>6.2.2   </a:t>
            </a:r>
            <a:r>
              <a:rPr b="0" lang="zh-CN" sz="4000" spc="-1" strike="noStrike">
                <a:solidFill>
                  <a:srgbClr val="1f4081"/>
                </a:solidFill>
                <a:latin typeface="Times New Roman"/>
              </a:rPr>
              <a:t>压缩与解压缩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19000" y="1924200"/>
            <a:ext cx="8325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数据压缩的必要性：多媒体计算机处理的音频视频数字化信息涉及的数据量非常大，巨大的数据量对设备的存储容量提出了很高的要求，且影响数据的传输、运行和处理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数据压缩的可行性：存在着大量的数据冗余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5b5249"/>
                </a:solidFill>
                <a:latin typeface="宋体"/>
              </a:rPr>
              <a:t>数据压缩包括两个过程：一是数据编码，另一个是数据解码。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47640" y="1123920"/>
            <a:ext cx="8153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常用的音频压缩标准有：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CITT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音频压缩标准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G.711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G.721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G.722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PEG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音频压缩编码等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常用的视频压缩标准有：国际标准化组织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SO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制定的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JBIP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标准、联合图片专家组制定的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JPEG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标准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主要的音频视频数据压缩标准：动态图像专家组制定的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PEG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标准、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SO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组织和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CITT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制定的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SO H.261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或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CITT P×64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标准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597760" y="1003320"/>
            <a:ext cx="360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f4081"/>
                </a:solidFill>
                <a:latin typeface="Times New Roman"/>
              </a:rPr>
              <a:t>6.2.3   </a:t>
            </a:r>
            <a:r>
              <a:rPr b="0" lang="en-US" sz="4000" spc="-1" strike="noStrike">
                <a:solidFill>
                  <a:srgbClr val="1f4081"/>
                </a:solidFill>
                <a:latin typeface="Times New Roman"/>
              </a:rPr>
              <a:t>CD-ROM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85760" y="1924200"/>
            <a:ext cx="71438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D-ROM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盘具有以下优点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·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容量巨大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·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可靠性高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·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单位成本低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·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读取速度较理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09480" y="952560"/>
            <a:ext cx="8305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光盘系统包含光盘驱动器和光盘。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D-ROM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驱动器是用来读取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D-ROM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光盘所携带信息的硬件设备，是多媒体个人计算机的必选件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衡量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D-ROM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驱动器的主要性能指标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·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驱动器的速度：目前一般使用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40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倍速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D-ROM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驱动器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·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平均访问时间：即计算机从请求信息到找到信息之前的时间间隔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宋体"/>
              </a:rPr>
              <a:t> </a:t>
            </a:r>
            <a:r>
              <a:rPr b="0" lang="zh-CN" sz="3200" spc="-1" strike="noStrike">
                <a:solidFill>
                  <a:srgbClr val="5b5249"/>
                </a:solidFill>
                <a:latin typeface="宋体"/>
              </a:rPr>
              <a:t>·</a:t>
            </a:r>
            <a:r>
              <a:rPr b="0" lang="zh-CN" sz="3200" spc="-1" strike="noStrike">
                <a:solidFill>
                  <a:srgbClr val="5b5249"/>
                </a:solidFill>
                <a:latin typeface="宋体"/>
              </a:rPr>
              <a:t>持续传输速率：它表示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D-ROM</a:t>
            </a:r>
            <a:r>
              <a:rPr b="0" lang="zh-CN" sz="3200" spc="-1" strike="noStrike">
                <a:solidFill>
                  <a:srgbClr val="5b5249"/>
                </a:solidFill>
                <a:latin typeface="宋体"/>
              </a:rPr>
              <a:t>驱动器在单位时间内能够传输的数据量。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592360" y="965160"/>
            <a:ext cx="413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f4081"/>
                </a:solidFill>
                <a:latin typeface="Times New Roman"/>
              </a:rPr>
              <a:t>6.3.1   </a:t>
            </a:r>
            <a:r>
              <a:rPr b="0" lang="zh-CN" sz="4000" spc="-1" strike="noStrike">
                <a:solidFill>
                  <a:srgbClr val="1f4081"/>
                </a:solidFill>
                <a:latin typeface="Times New Roman"/>
              </a:rPr>
              <a:t>图片的制作与处理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2038320"/>
            <a:ext cx="8286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图像处理是一个非常复杂的问题，现在已经有了许多优秀的图像处理软件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Photoshop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图像编辑软件可以处理来自扫描仪、幻灯片、数字照相机、摄像机等的图像。可以对这些图像进行修版、着色、校正颜色、增加清晰度等操作。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668680" y="984240"/>
            <a:ext cx="322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f4081"/>
                </a:solidFill>
                <a:latin typeface="Times New Roman"/>
              </a:rPr>
              <a:t>6.3.2   </a:t>
            </a:r>
            <a:r>
              <a:rPr b="0" lang="zh-CN" sz="4000" spc="-1" strike="noStrike">
                <a:solidFill>
                  <a:srgbClr val="1f4081"/>
                </a:solidFill>
                <a:latin typeface="Times New Roman"/>
              </a:rPr>
              <a:t>动画的制作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28560" y="1758960"/>
            <a:ext cx="8515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计算机动画与视频一样，都是动态图像，是利用人的视觉暂留特性，以一定的速度播放一系列图片所产生的视觉效果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目前最流行的动画软件是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utodesk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公司开发的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S MAX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系列。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S MAX</a:t>
            </a:r>
            <a:r>
              <a:rPr b="0" lang="zh-CN" sz="3200" spc="-1" strike="noStrike">
                <a:solidFill>
                  <a:srgbClr val="5b5249"/>
                </a:solidFill>
                <a:latin typeface="宋体"/>
              </a:rPr>
              <a:t>具有友好的用户界面和强大的制作功能。在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Windows 95/Windows NT</a:t>
            </a:r>
            <a:r>
              <a:rPr b="0" lang="zh-CN" sz="3200" spc="-1" strike="noStrike">
                <a:solidFill>
                  <a:srgbClr val="5b5249"/>
                </a:solidFill>
                <a:latin typeface="宋体"/>
              </a:rPr>
              <a:t>环境下，配以奔腾处理器和三维图形卡，其图形处理能力可以和工作站相媲美。此外，它简单易学，容易操作，是广大动画制作人员和动画爱好者的极佳选择。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129400" y="1143000"/>
            <a:ext cx="468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f4081"/>
                </a:solidFill>
                <a:latin typeface="宋体"/>
              </a:rPr>
              <a:t>第</a:t>
            </a:r>
            <a:r>
              <a:rPr b="0" lang="zh-CN" sz="40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1f4081"/>
                </a:solidFill>
                <a:latin typeface="Times New Roman"/>
              </a:rPr>
              <a:t>6 </a:t>
            </a:r>
            <a:r>
              <a:rPr b="0" lang="zh-CN" sz="4000" spc="-1" strike="noStrike">
                <a:solidFill>
                  <a:srgbClr val="1f4081"/>
                </a:solidFill>
                <a:latin typeface="宋体"/>
              </a:rPr>
              <a:t>章</a:t>
            </a:r>
            <a:r>
              <a:rPr b="0" lang="zh-CN" sz="4000" spc="-1" strike="noStrike">
                <a:solidFill>
                  <a:srgbClr val="1f4081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1f4081"/>
                </a:solidFill>
                <a:latin typeface="宋体"/>
              </a:rPr>
              <a:t>多媒体应用能力培养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">
            <a:hlinkClick r:id="rId1" action="ppaction://hlinksldjump"/>
          </p:cNvPr>
          <p:cNvSpPr/>
          <p:nvPr/>
        </p:nvSpPr>
        <p:spPr>
          <a:xfrm>
            <a:off x="1791000" y="3809880"/>
            <a:ext cx="285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6.2   </a:t>
            </a:r>
            <a:r>
              <a:rPr b="0" lang="zh-CN" sz="3600" spc="-1" strike="noStrike">
                <a:solidFill>
                  <a:srgbClr val="5b5249"/>
                </a:solidFill>
                <a:latin typeface="宋体"/>
              </a:rPr>
              <a:t>媒体处理技术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67320" y="5105520"/>
            <a:ext cx="285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6.3   </a:t>
            </a:r>
            <a:r>
              <a:rPr b="0" lang="zh-CN" sz="3600" spc="-1" strike="noStrike">
                <a:solidFill>
                  <a:srgbClr val="5b5249"/>
                </a:solidFill>
                <a:latin typeface="宋体"/>
              </a:rPr>
              <a:t>媒体制作软件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084400" y="2514600"/>
            <a:ext cx="36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6.1   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多</a:t>
            </a:r>
            <a:r>
              <a:rPr b="0" lang="zh-CN" sz="3600" spc="-1" strike="noStrike">
                <a:solidFill>
                  <a:srgbClr val="5b5249"/>
                </a:solidFill>
                <a:latin typeface="宋体"/>
              </a:rPr>
              <a:t>媒体技术应用概述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725920" y="1117440"/>
            <a:ext cx="322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f4081"/>
                </a:solidFill>
                <a:latin typeface="Times New Roman"/>
              </a:rPr>
              <a:t>6.3.3   </a:t>
            </a:r>
            <a:r>
              <a:rPr b="0" lang="zh-CN" sz="4000" spc="-1" strike="noStrike">
                <a:solidFill>
                  <a:srgbClr val="1f4081"/>
                </a:solidFill>
                <a:latin typeface="Times New Roman"/>
              </a:rPr>
              <a:t>多媒体集成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1680" y="2076480"/>
            <a:ext cx="7791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uthorware</a:t>
            </a:r>
            <a:r>
              <a:rPr b="0" lang="zh-CN" sz="3200" spc="-1" strike="noStrike">
                <a:solidFill>
                  <a:srgbClr val="5b5249"/>
                </a:solidFill>
                <a:latin typeface="宋体"/>
              </a:rPr>
              <a:t>是美国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acromedia</a:t>
            </a:r>
            <a:r>
              <a:rPr b="0" lang="zh-CN" sz="3200" spc="-1" strike="noStrike">
                <a:solidFill>
                  <a:srgbClr val="5b5249"/>
                </a:solidFill>
                <a:latin typeface="宋体"/>
              </a:rPr>
              <a:t>公司的产品，该软件采用面向对象的设计思想，不但大大提高了多媒体系统的开发质量和速度，而且使非专业程序员开发多媒体作品成为可能。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uthorware</a:t>
            </a:r>
            <a:r>
              <a:rPr b="0" lang="zh-CN" sz="3200" spc="-1" strike="noStrike">
                <a:solidFill>
                  <a:srgbClr val="5b5249"/>
                </a:solidFill>
                <a:latin typeface="宋体"/>
              </a:rPr>
              <a:t>是目前世界上应用最多的多媒体创作平台，广泛地用于交互式教学系统、军事指挥及模拟系统、多媒体交互式数据库、多媒体咨询系统等各个领域。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935440" y="1003320"/>
            <a:ext cx="322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f4081"/>
                </a:solidFill>
                <a:latin typeface="Times New Roman"/>
              </a:rPr>
              <a:t>6.3.4   </a:t>
            </a:r>
            <a:r>
              <a:rPr b="0" lang="zh-CN" sz="4000" spc="-1" strike="noStrike">
                <a:solidFill>
                  <a:srgbClr val="1f4081"/>
                </a:solidFill>
                <a:latin typeface="Times New Roman"/>
              </a:rPr>
              <a:t>媒体数据库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4440" y="186696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DBMS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面临着的问题：基本数据不再是字符数值型，而是图像、声音，甚至视频数据，那将怎样进行检索？如何表达多媒体信息的内容：该如何组织这些数据呢？查询该如何进行呢？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5b5249"/>
                </a:solidFill>
                <a:latin typeface="宋体"/>
              </a:rPr>
              <a:t>多媒体数据库系统的关键技术有多媒体数据模型、用户接口方式、多媒体数据结构化查询语言、多媒体数据库系统的结构及分布式技术等。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608200" y="1171440"/>
            <a:ext cx="406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f4081"/>
                </a:solidFill>
                <a:latin typeface="Times New Roman"/>
              </a:rPr>
              <a:t>6.1   </a:t>
            </a:r>
            <a:r>
              <a:rPr b="0" lang="zh-CN" sz="4000" spc="-1" strike="noStrike">
                <a:solidFill>
                  <a:srgbClr val="1f4081"/>
                </a:solidFill>
                <a:latin typeface="Times New Roman"/>
              </a:rPr>
              <a:t>多</a:t>
            </a:r>
            <a:r>
              <a:rPr b="0" lang="zh-CN" sz="4000" spc="-1" strike="noStrike">
                <a:solidFill>
                  <a:srgbClr val="1f4081"/>
                </a:solidFill>
                <a:latin typeface="宋体"/>
              </a:rPr>
              <a:t>媒体技术应用概述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33400" y="245736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6.1.1   </a:t>
            </a:r>
            <a:r>
              <a:rPr b="0" lang="zh-CN" sz="3200" spc="-1" strike="noStrike">
                <a:solidFill>
                  <a:srgbClr val="5b5249"/>
                </a:solidFill>
                <a:latin typeface="宋体"/>
              </a:rPr>
              <a:t>概述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333880" y="3371760"/>
            <a:ext cx="335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6.1.2  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多媒体计算机系统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415240" y="4305240"/>
            <a:ext cx="35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6.1.3  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多媒体中的关键技术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352960" y="5219640"/>
            <a:ext cx="335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6.1.4  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多媒体的应用领域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22640" y="1266840"/>
            <a:ext cx="314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f4081"/>
                </a:solidFill>
                <a:latin typeface="Times New Roman"/>
              </a:rPr>
              <a:t>6.2   </a:t>
            </a:r>
            <a:r>
              <a:rPr b="0" lang="zh-CN" sz="4000" spc="-1" strike="noStrike">
                <a:solidFill>
                  <a:srgbClr val="1f4081"/>
                </a:solidFill>
                <a:latin typeface="宋体"/>
              </a:rPr>
              <a:t>媒体处理技术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04800" y="2552760"/>
            <a:ext cx="636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6.2.1  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听觉媒体、视觉</a:t>
            </a:r>
            <a:r>
              <a:rPr b="0" lang="zh-CN" sz="3200" spc="-1" strike="noStrike">
                <a:solidFill>
                  <a:srgbClr val="5b5249"/>
                </a:solidFill>
                <a:latin typeface="宋体"/>
              </a:rPr>
              <a:t>媒体的处理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39680" y="3616200"/>
            <a:ext cx="286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6.2.2  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压缩与解压缩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24160" y="4530600"/>
            <a:ext cx="30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6.2.3  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D-ROM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98960" y="1228680"/>
            <a:ext cx="314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f4081"/>
                </a:solidFill>
                <a:latin typeface="Times New Roman"/>
              </a:rPr>
              <a:t>6.3   </a:t>
            </a:r>
            <a:r>
              <a:rPr b="0" lang="zh-CN" sz="4000" spc="-1" strike="noStrike">
                <a:solidFill>
                  <a:srgbClr val="1f4081"/>
                </a:solidFill>
                <a:latin typeface="宋体"/>
              </a:rPr>
              <a:t>媒体制作软件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57480" y="2286000"/>
            <a:ext cx="611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6.3.1   </a:t>
            </a:r>
            <a:r>
              <a:rPr b="0" lang="zh-CN" sz="3200" spc="-1" strike="noStrike">
                <a:solidFill>
                  <a:srgbClr val="5b5249"/>
                </a:solidFill>
                <a:latin typeface="宋体"/>
              </a:rPr>
              <a:t>图片的制作与处理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23240" y="3292560"/>
            <a:ext cx="262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6.3.2  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动画的</a:t>
            </a:r>
            <a:r>
              <a:rPr b="0" lang="zh-CN" sz="3200" spc="-1" strike="noStrike">
                <a:solidFill>
                  <a:srgbClr val="5b5249"/>
                </a:solidFill>
                <a:latin typeface="宋体"/>
              </a:rPr>
              <a:t>制作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23240" y="4302000"/>
            <a:ext cx="262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6.3.3  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多媒体集成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80480" y="5292720"/>
            <a:ext cx="262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6.3.4  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媒体数据库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992320" y="831960"/>
            <a:ext cx="230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f4081"/>
                </a:solidFill>
                <a:latin typeface="Times New Roman"/>
              </a:rPr>
              <a:t>6.1.1   </a:t>
            </a:r>
            <a:r>
              <a:rPr b="0" lang="zh-CN" sz="4000" spc="-1" strike="noStrike">
                <a:solidFill>
                  <a:srgbClr val="1f4081"/>
                </a:solidFill>
                <a:latin typeface="宋体"/>
              </a:rPr>
              <a:t>概述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90400" y="1676520"/>
            <a:ext cx="855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5b5249"/>
                </a:solidFill>
                <a:latin typeface="宋体"/>
              </a:rPr>
              <a:t>多媒体计算机技术是指利用计算机来综合、集成处理文字、声音、图像、视频、动画等媒体，从而形成一种全新的信息传播和处理的计算机技术，其基本特征是媒体表示的数字化、媒体处理的集成性和系统的交互性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。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4440" y="44020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       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国际电联（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TU-T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）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定义了五种媒体：感觉媒体、表示媒体、存储媒体、传输媒体、显示媒体。事实上，“多媒体”常常是指信息表示媒体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287800" y="831960"/>
            <a:ext cx="413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f4081"/>
                </a:solidFill>
                <a:latin typeface="Times New Roman"/>
              </a:rPr>
              <a:t>6.1.2   </a:t>
            </a:r>
            <a:r>
              <a:rPr b="0" lang="zh-CN" sz="4000" spc="-1" strike="noStrike">
                <a:solidFill>
                  <a:srgbClr val="1f4081"/>
                </a:solidFill>
                <a:latin typeface="Times New Roman"/>
              </a:rPr>
              <a:t>多媒体计算机系统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95360" y="1568520"/>
            <a:ext cx="8648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多媒体计算机系统是指多媒体终端设备、多媒体网络设备、多媒体服务系统、多媒体软件及有关的媒体数据组成的有机整体。当多媒体系统只是单机时，只包含多媒体终端系统和相应的软件及数据，例如多媒体个人计算机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PC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。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而大多数情况下，多媒体系统是以网络形式出现的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宋体"/>
              </a:rPr>
              <a:t>  </a:t>
            </a:r>
            <a:r>
              <a:rPr b="0" lang="zh-CN" sz="3200" spc="-1" strike="noStrike">
                <a:solidFill>
                  <a:srgbClr val="5b5249"/>
                </a:solidFill>
                <a:latin typeface="宋体"/>
              </a:rPr>
              <a:t>多媒体系统的关键特性主要包括交互性、集成性、实时性三个方面，这是多媒体的主要特性，也是多媒体研究中必须解决的主要问题。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376720" y="870120"/>
            <a:ext cx="444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f4081"/>
                </a:solidFill>
                <a:latin typeface="Times New Roman"/>
              </a:rPr>
              <a:t>6.1.3   </a:t>
            </a:r>
            <a:r>
              <a:rPr b="0" lang="zh-CN" sz="4000" spc="-1" strike="noStrike">
                <a:solidFill>
                  <a:srgbClr val="1f4081"/>
                </a:solidFill>
                <a:latin typeface="Times New Roman"/>
              </a:rPr>
              <a:t>多媒体中的关键技术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19000" y="1886040"/>
            <a:ext cx="742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5b5249"/>
                </a:solidFill>
                <a:latin typeface="宋体"/>
              </a:rPr>
              <a:t>．数据压缩和还原技术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0280" y="2781360"/>
            <a:ext cx="58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5b5249"/>
                </a:solidFill>
                <a:latin typeface="宋体"/>
              </a:rPr>
              <a:t>．大容量的光盘存储技术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57160" y="3676680"/>
            <a:ext cx="779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5b5249"/>
                </a:solidFill>
                <a:latin typeface="宋体"/>
              </a:rPr>
              <a:t>．超大规模集成电路的密度和速度有了巨 大增加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506736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5b5249"/>
                </a:solidFill>
                <a:latin typeface="宋体"/>
              </a:rPr>
              <a:t>．多媒体计算机软件核心</a:t>
            </a: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345040" y="888840"/>
            <a:ext cx="413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f4081"/>
                </a:solidFill>
                <a:latin typeface="Times New Roman"/>
              </a:rPr>
              <a:t>6.1.4   </a:t>
            </a:r>
            <a:r>
              <a:rPr b="0" lang="zh-CN" sz="4000" spc="-1" strike="noStrike">
                <a:solidFill>
                  <a:srgbClr val="1f4081"/>
                </a:solidFill>
                <a:latin typeface="Times New Roman"/>
              </a:rPr>
              <a:t>多媒体的应用领域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1706400"/>
            <a:ext cx="85345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51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         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多媒体已经对人类的工作方式、信息方式、生活方式产生深刻的影响，多媒体的应用领域十分广泛。目前，主要用在以下领域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51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1.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 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多媒体教学和远程会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51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2. 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电子出版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51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3. 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家庭娱乐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51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4. 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产品演示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51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5. 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咨询服务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51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6. 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多媒体电子邮件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51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7. 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通信领域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51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51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51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2T23:37:10Z</dcterms:created>
  <dc:creator>雷丽艳</dc:creator>
  <dc:description/>
  <dc:language>en-US</dc:language>
  <cp:lastModifiedBy>雷丽艳</cp:lastModifiedBy>
  <dcterms:modified xsi:type="dcterms:W3CDTF">2001-08-24T12:33:41Z</dcterms:modified>
  <cp:revision>25</cp:revision>
  <dc:subject/>
  <dc:title>PowerPoint 演示文稿</dc:title>
</cp:coreProperties>
</file>